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7E66-3302-498C-999B-FD9666D7E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B306-BBC8-4C51-AF97-4E89C6D2D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61CE-2D80-45A8-B654-F47181EDA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0180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7216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3144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0180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57216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FABF-9645-4937-B35E-DA7C03BF1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31800" y="-27000"/>
            <a:ext cx="7416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041F-17F1-404B-A057-367C5364E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0180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7216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3144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0180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7216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DC33-8E53-4161-8586-43B7318F3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06E9-07D3-4C26-8650-239212C68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AA73-B40E-4810-B972-DE36E8169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31800" y="-27000"/>
            <a:ext cx="7416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D59F-913C-4F89-B816-421C9EEFB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1BC1-8556-4BFD-99FB-69B0BA996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7686-BB99-452E-93A0-999CA47E4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4432-9B4E-4ABF-808B-03A02943B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640"/>
            <a:ext cx="990612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4640"/>
            <a:ext cx="9906120" cy="333360"/>
          </a:xfrm>
          <a:prstGeom prst="rect">
            <a:avLst/>
          </a:prstGeom>
          <a:solidFill>
            <a:srgbClr val="000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906120" cy="6922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266760">
              <a:spcBef>
                <a:spcPts val="1250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53352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481960" y="6597360"/>
            <a:ext cx="14241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p</a:t>
            </a:r>
            <a:fld id="{EE1CDB20-3BB3-4B9E-ACD9-D597A51E71C5}" type="slidenum"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09440" cy="1009800"/>
            <a:chOff x="0" y="0"/>
            <a:chExt cx="1009440" cy="10098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360" y="144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87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360" y="43164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88720" y="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3080" y="14436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88720" y="287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33080" y="43164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76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4360" y="720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88720" y="576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86508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76000" y="28872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76000" y="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0720" y="144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080" y="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3" name=""/>
          <p:cNvSpPr/>
          <p:nvPr/>
        </p:nvSpPr>
        <p:spPr>
          <a:xfrm>
            <a:off x="156240" y="6626160"/>
            <a:ext cx="294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Copyright©2011 Digipot.net Copyright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8337600" y="115920"/>
            <a:ext cx="1439640" cy="433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ロゴ、社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ブランド名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6160" y="1916280"/>
            <a:ext cx="8353440" cy="25923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49240" y="1989000"/>
            <a:ext cx="1009440" cy="1009800"/>
            <a:chOff x="849240" y="1989000"/>
            <a:chExt cx="1009440" cy="1009800"/>
          </a:xfrm>
        </p:grpSpPr>
        <p:sp>
          <p:nvSpPr>
            <p:cNvPr id="63" name=""/>
            <p:cNvSpPr/>
            <p:nvPr/>
          </p:nvSpPr>
          <p:spPr>
            <a:xfrm>
              <a:off x="849240" y="19890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93600" y="2133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9240" y="2276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600" y="242064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37960" y="19890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82320" y="213336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7960" y="2276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82320" y="242064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9240" y="2565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3600" y="2709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7960" y="2565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9240" y="285408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25240" y="227772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25240" y="198900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69960" y="2133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14320" y="19890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8048520" y="3428640"/>
            <a:ext cx="1009440" cy="1009800"/>
            <a:chOff x="8048520" y="3428640"/>
            <a:chExt cx="1009440" cy="1009800"/>
          </a:xfrm>
        </p:grpSpPr>
        <p:sp>
          <p:nvSpPr>
            <p:cNvPr id="80" name=""/>
            <p:cNvSpPr/>
            <p:nvPr/>
          </p:nvSpPr>
          <p:spPr>
            <a:xfrm rot="10800000">
              <a:off x="8913600" y="42940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8769240" y="4149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8913600" y="40068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8769240" y="386208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8624880" y="42940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8480160" y="414972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8624880" y="40068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8480160" y="386208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8913600" y="3717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8769240" y="3573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8624880" y="3717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8913600" y="342864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8337240" y="400500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8337240" y="429408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8192880" y="4149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0800000">
              <a:off x="8048520" y="42940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1800" y="2637000"/>
            <a:ext cx="7993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97" name=""/>
          <p:cNvSpPr/>
          <p:nvPr/>
        </p:nvSpPr>
        <p:spPr>
          <a:xfrm>
            <a:off x="156240" y="6626160"/>
            <a:ext cx="294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Copyright©2011 Digipot.net Copyright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メイリオ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  <a:p>
            <a:pPr lvl="1" marL="26676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メイリオ"/>
            </a:endParaRPr>
          </a:p>
          <a:p>
            <a:pPr lvl="2" marL="533520" algn="ctr">
              <a:spcBef>
                <a:spcPts val="751"/>
              </a:spcBef>
              <a:buClr>
                <a:srgbClr val="000000"/>
              </a:buClr>
              <a:buFont typeface="メイリオ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メイリオ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1800" y="2637000"/>
            <a:ext cx="7993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メイリオ"/>
              </a:rPr>
              <a:t>○○○○</a:t>
            </a:r>
            <a:r>
              <a:rPr b="1" lang="zh-CN" sz="3200" spc="-1" strike="noStrike">
                <a:solidFill>
                  <a:srgbClr val="ffffff"/>
                </a:solidFill>
                <a:latin typeface="メイリオ"/>
              </a:rPr>
              <a:t>ソリューション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メイリオ"/>
              </a:rPr>
              <a:t>ご提案書</a:t>
            </a:r>
            <a:endParaRPr b="1" lang="en-US" sz="32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39800" y="2205000"/>
            <a:ext cx="6934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メイリオ"/>
              </a:rPr>
              <a:t>～○○の悩みを解決する～</a:t>
            </a: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7" name=""/>
          <p:cNvSpPr/>
          <p:nvPr/>
        </p:nvSpPr>
        <p:spPr>
          <a:xfrm>
            <a:off x="776160" y="5805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株式会社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160" y="5013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○○○○○ 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17600" y="907920"/>
            <a:ext cx="4464000" cy="2449800"/>
          </a:xfrm>
          <a:prstGeom prst="roundRect">
            <a:avLst>
              <a:gd name="adj" fmla="val 2514"/>
            </a:avLst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５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導入実績　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4105440" cy="7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6" name=""/>
          <p:cNvSpPr/>
          <p:nvPr/>
        </p:nvSpPr>
        <p:spPr>
          <a:xfrm>
            <a:off x="417600" y="3571920"/>
            <a:ext cx="4464000" cy="2449440"/>
          </a:xfrm>
          <a:prstGeom prst="roundRect">
            <a:avLst>
              <a:gd name="adj" fmla="val 2514"/>
            </a:avLst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1800" y="3716280"/>
            <a:ext cx="41054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97600" y="907920"/>
            <a:ext cx="4464000" cy="2449800"/>
          </a:xfrm>
          <a:prstGeom prst="roundRect">
            <a:avLst>
              <a:gd name="adj" fmla="val 2514"/>
            </a:avLst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11800" y="1052640"/>
            <a:ext cx="41050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97600" y="3571920"/>
            <a:ext cx="4464000" cy="2449440"/>
          </a:xfrm>
          <a:prstGeom prst="roundRect">
            <a:avLst>
              <a:gd name="adj" fmla="val 2514"/>
            </a:avLst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11800" y="3716280"/>
            <a:ext cx="41050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47960" y="609300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メイリオ"/>
              </a:rPr>
              <a:t>他にも約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メイリオ"/>
              </a:rPr>
              <a:t>30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メイリオ"/>
              </a:rPr>
              <a:t>件の導入実績が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A7A7-1647-403A-AA8B-B36180922C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6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導入金額概算　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88880" y="974880"/>
          <a:ext cx="9001080" cy="4033800"/>
        </p:xfrm>
        <a:graphic>
          <a:graphicData uri="http://schemas.openxmlformats.org/drawingml/2006/table">
            <a:tbl>
              <a:tblPr/>
              <a:tblGrid>
                <a:gridCol w="655560"/>
                <a:gridCol w="4876920"/>
                <a:gridCol w="1123920"/>
                <a:gridCol w="657360"/>
                <a:gridCol w="168732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税込金額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88880" y="5154480"/>
            <a:ext cx="9001080" cy="432000"/>
          </a:xfrm>
          <a:prstGeom prst="roundRect">
            <a:avLst>
              <a:gd name="adj" fmla="val 164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5400" y="5187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導入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56880" y="570564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71320" y="5187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A6AB-9B2D-4A0E-8584-265794E2DF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７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お問い合わせ先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10" name=""/>
          <p:cNvSpPr/>
          <p:nvPr/>
        </p:nvSpPr>
        <p:spPr>
          <a:xfrm>
            <a:off x="704880" y="1268280"/>
            <a:ext cx="87850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株式会社◎◎◎コーポレーション　システムサービス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世田谷区◎◎◎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丁目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-0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◎◎◎ビル３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電話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03-0000-XXXX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:03-0000-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://www.digipo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担当　山田太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携帯　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90-000-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ール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information@xxxxxxxxx.co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CEE5-65E8-4EFF-8DF7-C027D27604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はじめに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この度は、ご提案の機会を賜り厚く御礼申し上げます。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（定型文ではなく、会社の得意分野、実績などをアピールする文章を挿入すること）弊社は、この○○分野に於きましては業界でトップシェアを誇り、すでに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社あまりの導入実績がございますので、アフターサポートに関しても自信がございます。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是非、ご提案を採用いただき、弊社にご用命くださいますよう宜しくお願い申し上げます。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株式会社○○○　営業部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BAD1-31C8-42A5-9062-B4D2DEA655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目次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31800" y="1052640"/>
          <a:ext cx="8785080" cy="5073480"/>
        </p:xfrm>
        <a:graphic>
          <a:graphicData uri="http://schemas.openxmlformats.org/drawingml/2006/table">
            <a:tbl>
              <a:tblPr/>
              <a:tblGrid>
                <a:gridCol w="5761080"/>
                <a:gridCol w="2232000"/>
                <a:gridCol w="79200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4D47-C140-44E3-A66A-2A3CBC50E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4520" y="836640"/>
            <a:ext cx="9288360" cy="5545080"/>
          </a:xfrm>
          <a:prstGeom prst="roundRect">
            <a:avLst>
              <a:gd name="adj" fmla="val 2514"/>
            </a:avLst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１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ご提案のセールスポイント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46" name=""/>
          <p:cNvSpPr/>
          <p:nvPr/>
        </p:nvSpPr>
        <p:spPr>
          <a:xfrm>
            <a:off x="1136520" y="981000"/>
            <a:ext cx="8353440" cy="1656000"/>
          </a:xfrm>
          <a:prstGeom prst="roundRect">
            <a:avLst>
              <a:gd name="adj" fmla="val 82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2880" y="907920"/>
            <a:ext cx="1366920" cy="720720"/>
            <a:chOff x="272880" y="907920"/>
            <a:chExt cx="1366920" cy="720720"/>
          </a:xfrm>
        </p:grpSpPr>
        <p:sp>
          <p:nvSpPr>
            <p:cNvPr id="148" name=""/>
            <p:cNvSpPr/>
            <p:nvPr/>
          </p:nvSpPr>
          <p:spPr>
            <a:xfrm>
              <a:off x="272880" y="907920"/>
              <a:ext cx="1366920" cy="720720"/>
            </a:xfrm>
            <a:custGeom>
              <a:avLst/>
              <a:gdLst>
                <a:gd name="textAreaLeft" fmla="*/ 321120 w 1366920"/>
                <a:gd name="textAreaRight" fmla="*/ 1045800 w 1366920"/>
                <a:gd name="textAreaTop" fmla="*/ 169200 h 720720"/>
                <a:gd name="textAreaBottom" fmla="*/ 5515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54" y="12345"/>
                  </a:lnTo>
                  <a:lnTo>
                    <a:pt x="786" y="14846"/>
                  </a:lnTo>
                  <a:lnTo>
                    <a:pt x="4011" y="15209"/>
                  </a:lnTo>
                  <a:lnTo>
                    <a:pt x="3163" y="18437"/>
                  </a:lnTo>
                  <a:lnTo>
                    <a:pt x="6273" y="17511"/>
                  </a:lnTo>
                  <a:lnTo>
                    <a:pt x="6580" y="20741"/>
                  </a:lnTo>
                  <a:lnTo>
                    <a:pt x="9117" y="18718"/>
                  </a:lnTo>
                  <a:lnTo>
                    <a:pt x="10800" y="21600"/>
                  </a:lnTo>
                  <a:lnTo>
                    <a:pt x="12345" y="18746"/>
                  </a:lnTo>
                  <a:lnTo>
                    <a:pt x="14846" y="20814"/>
                  </a:lnTo>
                  <a:lnTo>
                    <a:pt x="15209" y="17589"/>
                  </a:lnTo>
                  <a:lnTo>
                    <a:pt x="18437" y="18437"/>
                  </a:lnTo>
                  <a:lnTo>
                    <a:pt x="17511" y="15327"/>
                  </a:lnTo>
                  <a:lnTo>
                    <a:pt x="20741" y="15020"/>
                  </a:lnTo>
                  <a:lnTo>
                    <a:pt x="18718" y="12483"/>
                  </a:lnTo>
                  <a:lnTo>
                    <a:pt x="21600" y="10800"/>
                  </a:lnTo>
                  <a:lnTo>
                    <a:pt x="18746" y="9255"/>
                  </a:lnTo>
                  <a:lnTo>
                    <a:pt x="20814" y="6754"/>
                  </a:lnTo>
                  <a:lnTo>
                    <a:pt x="17589" y="6391"/>
                  </a:lnTo>
                  <a:lnTo>
                    <a:pt x="18437" y="3163"/>
                  </a:lnTo>
                  <a:lnTo>
                    <a:pt x="15327" y="4089"/>
                  </a:lnTo>
                  <a:lnTo>
                    <a:pt x="15020" y="859"/>
                  </a:lnTo>
                  <a:lnTo>
                    <a:pt x="12483" y="2882"/>
                  </a:lnTo>
                  <a:lnTo>
                    <a:pt x="10800" y="0"/>
                  </a:lnTo>
                  <a:lnTo>
                    <a:pt x="9255" y="2854"/>
                  </a:lnTo>
                  <a:lnTo>
                    <a:pt x="6754" y="786"/>
                  </a:lnTo>
                  <a:lnTo>
                    <a:pt x="6391" y="4011"/>
                  </a:lnTo>
                  <a:lnTo>
                    <a:pt x="3163" y="3163"/>
                  </a:lnTo>
                  <a:lnTo>
                    <a:pt x="4089" y="6273"/>
                  </a:lnTo>
                  <a:lnTo>
                    <a:pt x="859" y="6580"/>
                  </a:lnTo>
                  <a:lnTo>
                    <a:pt x="2882" y="91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560520" y="1125360"/>
              <a:ext cx="86364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ココがスゴイ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36520" y="2781360"/>
            <a:ext cx="8353440" cy="1655640"/>
          </a:xfrm>
          <a:prstGeom prst="roundRect">
            <a:avLst>
              <a:gd name="adj" fmla="val 82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36520" y="4581360"/>
            <a:ext cx="8353440" cy="1656000"/>
          </a:xfrm>
          <a:prstGeom prst="roundRect">
            <a:avLst>
              <a:gd name="adj" fmla="val 82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72880" y="2852640"/>
            <a:ext cx="1366920" cy="720720"/>
            <a:chOff x="272880" y="2852640"/>
            <a:chExt cx="1366920" cy="720720"/>
          </a:xfrm>
        </p:grpSpPr>
        <p:sp>
          <p:nvSpPr>
            <p:cNvPr id="153" name=""/>
            <p:cNvSpPr/>
            <p:nvPr/>
          </p:nvSpPr>
          <p:spPr>
            <a:xfrm>
              <a:off x="272880" y="2852640"/>
              <a:ext cx="1366920" cy="720720"/>
            </a:xfrm>
            <a:custGeom>
              <a:avLst/>
              <a:gdLst>
                <a:gd name="textAreaLeft" fmla="*/ 321120 w 1366920"/>
                <a:gd name="textAreaRight" fmla="*/ 1045800 w 1366920"/>
                <a:gd name="textAreaTop" fmla="*/ 169200 h 720720"/>
                <a:gd name="textAreaBottom" fmla="*/ 5515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54" y="12345"/>
                  </a:lnTo>
                  <a:lnTo>
                    <a:pt x="786" y="14846"/>
                  </a:lnTo>
                  <a:lnTo>
                    <a:pt x="4011" y="15209"/>
                  </a:lnTo>
                  <a:lnTo>
                    <a:pt x="3163" y="18437"/>
                  </a:lnTo>
                  <a:lnTo>
                    <a:pt x="6273" y="17511"/>
                  </a:lnTo>
                  <a:lnTo>
                    <a:pt x="6580" y="20741"/>
                  </a:lnTo>
                  <a:lnTo>
                    <a:pt x="9117" y="18718"/>
                  </a:lnTo>
                  <a:lnTo>
                    <a:pt x="10800" y="21600"/>
                  </a:lnTo>
                  <a:lnTo>
                    <a:pt x="12345" y="18746"/>
                  </a:lnTo>
                  <a:lnTo>
                    <a:pt x="14846" y="20814"/>
                  </a:lnTo>
                  <a:lnTo>
                    <a:pt x="15209" y="17589"/>
                  </a:lnTo>
                  <a:lnTo>
                    <a:pt x="18437" y="18437"/>
                  </a:lnTo>
                  <a:lnTo>
                    <a:pt x="17511" y="15327"/>
                  </a:lnTo>
                  <a:lnTo>
                    <a:pt x="20741" y="15020"/>
                  </a:lnTo>
                  <a:lnTo>
                    <a:pt x="18718" y="12483"/>
                  </a:lnTo>
                  <a:lnTo>
                    <a:pt x="21600" y="10800"/>
                  </a:lnTo>
                  <a:lnTo>
                    <a:pt x="18746" y="9255"/>
                  </a:lnTo>
                  <a:lnTo>
                    <a:pt x="20814" y="6754"/>
                  </a:lnTo>
                  <a:lnTo>
                    <a:pt x="17589" y="6391"/>
                  </a:lnTo>
                  <a:lnTo>
                    <a:pt x="18437" y="3163"/>
                  </a:lnTo>
                  <a:lnTo>
                    <a:pt x="15327" y="4089"/>
                  </a:lnTo>
                  <a:lnTo>
                    <a:pt x="15020" y="859"/>
                  </a:lnTo>
                  <a:lnTo>
                    <a:pt x="12483" y="2882"/>
                  </a:lnTo>
                  <a:lnTo>
                    <a:pt x="10800" y="0"/>
                  </a:lnTo>
                  <a:lnTo>
                    <a:pt x="9255" y="2854"/>
                  </a:lnTo>
                  <a:lnTo>
                    <a:pt x="6754" y="786"/>
                  </a:lnTo>
                  <a:lnTo>
                    <a:pt x="6391" y="4011"/>
                  </a:lnTo>
                  <a:lnTo>
                    <a:pt x="3163" y="3163"/>
                  </a:lnTo>
                  <a:lnTo>
                    <a:pt x="4089" y="6273"/>
                  </a:lnTo>
                  <a:lnTo>
                    <a:pt x="859" y="6580"/>
                  </a:lnTo>
                  <a:lnTo>
                    <a:pt x="2882" y="91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60520" y="3070080"/>
              <a:ext cx="86364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ココがスゴイ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00160" y="4653000"/>
            <a:ext cx="1366560" cy="720720"/>
            <a:chOff x="200160" y="4653000"/>
            <a:chExt cx="1366560" cy="720720"/>
          </a:xfrm>
        </p:grpSpPr>
        <p:sp>
          <p:nvSpPr>
            <p:cNvPr id="156" name=""/>
            <p:cNvSpPr/>
            <p:nvPr/>
          </p:nvSpPr>
          <p:spPr>
            <a:xfrm>
              <a:off x="200160" y="4653000"/>
              <a:ext cx="1366560" cy="720720"/>
            </a:xfrm>
            <a:custGeom>
              <a:avLst/>
              <a:gdLst>
                <a:gd name="textAreaLeft" fmla="*/ 321120 w 1366560"/>
                <a:gd name="textAreaRight" fmla="*/ 1045440 w 1366560"/>
                <a:gd name="textAreaTop" fmla="*/ 169200 h 720720"/>
                <a:gd name="textAreaBottom" fmla="*/ 5515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54" y="12345"/>
                  </a:lnTo>
                  <a:lnTo>
                    <a:pt x="786" y="14846"/>
                  </a:lnTo>
                  <a:lnTo>
                    <a:pt x="4011" y="15209"/>
                  </a:lnTo>
                  <a:lnTo>
                    <a:pt x="3163" y="18437"/>
                  </a:lnTo>
                  <a:lnTo>
                    <a:pt x="6273" y="17511"/>
                  </a:lnTo>
                  <a:lnTo>
                    <a:pt x="6580" y="20741"/>
                  </a:lnTo>
                  <a:lnTo>
                    <a:pt x="9117" y="18718"/>
                  </a:lnTo>
                  <a:lnTo>
                    <a:pt x="10800" y="21600"/>
                  </a:lnTo>
                  <a:lnTo>
                    <a:pt x="12345" y="18746"/>
                  </a:lnTo>
                  <a:lnTo>
                    <a:pt x="14846" y="20814"/>
                  </a:lnTo>
                  <a:lnTo>
                    <a:pt x="15209" y="17589"/>
                  </a:lnTo>
                  <a:lnTo>
                    <a:pt x="18437" y="18437"/>
                  </a:lnTo>
                  <a:lnTo>
                    <a:pt x="17511" y="15327"/>
                  </a:lnTo>
                  <a:lnTo>
                    <a:pt x="20741" y="15020"/>
                  </a:lnTo>
                  <a:lnTo>
                    <a:pt x="18718" y="12483"/>
                  </a:lnTo>
                  <a:lnTo>
                    <a:pt x="21600" y="10800"/>
                  </a:lnTo>
                  <a:lnTo>
                    <a:pt x="18746" y="9255"/>
                  </a:lnTo>
                  <a:lnTo>
                    <a:pt x="20814" y="6754"/>
                  </a:lnTo>
                  <a:lnTo>
                    <a:pt x="17589" y="6391"/>
                  </a:lnTo>
                  <a:lnTo>
                    <a:pt x="18437" y="3163"/>
                  </a:lnTo>
                  <a:lnTo>
                    <a:pt x="15327" y="4089"/>
                  </a:lnTo>
                  <a:lnTo>
                    <a:pt x="15020" y="859"/>
                  </a:lnTo>
                  <a:lnTo>
                    <a:pt x="12483" y="2882"/>
                  </a:lnTo>
                  <a:lnTo>
                    <a:pt x="10800" y="0"/>
                  </a:lnTo>
                  <a:lnTo>
                    <a:pt x="9255" y="2854"/>
                  </a:lnTo>
                  <a:lnTo>
                    <a:pt x="6754" y="786"/>
                  </a:lnTo>
                  <a:lnTo>
                    <a:pt x="6391" y="4011"/>
                  </a:lnTo>
                  <a:lnTo>
                    <a:pt x="3163" y="3163"/>
                  </a:lnTo>
                  <a:lnTo>
                    <a:pt x="4089" y="6273"/>
                  </a:lnTo>
                  <a:lnTo>
                    <a:pt x="859" y="6580"/>
                  </a:lnTo>
                  <a:lnTo>
                    <a:pt x="2882" y="91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87440" y="4870440"/>
              <a:ext cx="86328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ココがスゴイ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20960" y="1052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ールス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20960" y="292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ールス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20960" y="472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ールス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67E6-021E-4B94-B421-30520390A9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4520" y="836640"/>
            <a:ext cx="9288360" cy="5545080"/>
          </a:xfrm>
          <a:prstGeom prst="roundRect">
            <a:avLst>
              <a:gd name="adj" fmla="val 2514"/>
            </a:avLst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２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ソリューションの概要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全体の概要を説明。（ここでは、どういうソリューションなのかを簡単に説明する。）文字だけ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NG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必ず図を挿入すること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"/>
          <p:cNvSpPr/>
          <p:nvPr/>
        </p:nvSpPr>
        <p:spPr>
          <a:xfrm>
            <a:off x="560520" y="2852640"/>
            <a:ext cx="8856360" cy="33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概要図を挿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B5E4-25D7-467D-9D3D-A7631D3BEB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２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ソリューションの概要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66" name=""/>
          <p:cNvSpPr/>
          <p:nvPr/>
        </p:nvSpPr>
        <p:spPr>
          <a:xfrm>
            <a:off x="1307520" y="8366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２－１．システム構成（任意のタイト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2160" y="1341000"/>
            <a:ext cx="84247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メイリオ"/>
              </a:rPr>
              <a:t>詳細を記載。</a:t>
            </a:r>
            <a:endParaRPr b="0" lang="en-US" sz="1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7694-B303-469C-BE4C-48AD478F91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２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ソリューションの概要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69" name=""/>
          <p:cNvSpPr/>
          <p:nvPr/>
        </p:nvSpPr>
        <p:spPr>
          <a:xfrm>
            <a:off x="1384200" y="83664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２－２．ソリューションの体系（任意のタイト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2160" y="1341000"/>
            <a:ext cx="8424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詳細を記載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1" name=""/>
          <p:cNvSpPr/>
          <p:nvPr/>
        </p:nvSpPr>
        <p:spPr>
          <a:xfrm>
            <a:off x="920880" y="5805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必要に応じて追記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FCDE-32F8-484B-ADA6-D26F557620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4520" y="836640"/>
            <a:ext cx="9288360" cy="5545080"/>
          </a:xfrm>
          <a:prstGeom prst="roundRect">
            <a:avLst>
              <a:gd name="adj" fmla="val 2514"/>
            </a:avLst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３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メンテナンスとアフターサービスについて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850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概要を説明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E488-5BF2-427A-9C2F-BBC9A9DCA1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44520" y="981000"/>
            <a:ext cx="4608360" cy="5400720"/>
          </a:xfrm>
          <a:custGeom>
            <a:avLst/>
            <a:gdLst>
              <a:gd name="textAreaLeft" fmla="*/ 33840 w 4608360"/>
              <a:gd name="textAreaRight" fmla="*/ 4574520 w 4608360"/>
              <a:gd name="textAreaTop" fmla="*/ 33840 h 5400720"/>
              <a:gd name="textAreaBottom" fmla="*/ 5366880 h 5400720"/>
            </a:gdLst>
            <a:ahLst/>
            <a:rect l="textAreaLeft" t="textAreaTop" r="textAreaRight" b="textAreaBottom"/>
            <a:pathLst>
              <a:path w="21600" h="25314">
                <a:moveTo>
                  <a:pt x="543" y="0"/>
                </a:moveTo>
                <a:arcTo wR="543" hR="543" stAng="16200000" swAng="-5400000"/>
                <a:lnTo>
                  <a:pt x="0" y="24771"/>
                </a:lnTo>
                <a:arcTo wR="543" hR="543" stAng="10800000" swAng="-5400000"/>
                <a:lnTo>
                  <a:pt x="21057" y="25314"/>
                </a:lnTo>
                <a:arcTo wR="543" hR="543" stAng="5400000" swAng="-5400000"/>
                <a:lnTo>
                  <a:pt x="21600" y="543"/>
                </a:lnTo>
                <a:arcTo wR="543" hR="543" stAng="0" swAng="-5400000"/>
                <a:close/>
              </a:path>
            </a:pathLst>
          </a:cu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４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導入のメリットとデメリット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981000"/>
            <a:ext cx="4608720" cy="5400720"/>
          </a:xfrm>
          <a:custGeom>
            <a:avLst/>
            <a:gdLst>
              <a:gd name="textAreaLeft" fmla="*/ 33840 w 4608720"/>
              <a:gd name="textAreaRight" fmla="*/ 4574880 w 4608720"/>
              <a:gd name="textAreaTop" fmla="*/ 33840 h 5400720"/>
              <a:gd name="textAreaBottom" fmla="*/ 5366880 h 5400720"/>
            </a:gdLst>
            <a:ahLst/>
            <a:rect l="textAreaLeft" t="textAreaTop" r="textAreaRight" b="textAreaBottom"/>
            <a:pathLst>
              <a:path w="21600" h="25312">
                <a:moveTo>
                  <a:pt x="543" y="0"/>
                </a:moveTo>
                <a:arcTo wR="543" hR="543" stAng="16200000" swAng="-5400000"/>
                <a:lnTo>
                  <a:pt x="0" y="24769"/>
                </a:lnTo>
                <a:arcTo wR="543" hR="543" stAng="10800000" swAng="-5400000"/>
                <a:lnTo>
                  <a:pt x="21057" y="25312"/>
                </a:lnTo>
                <a:arcTo wR="543" hR="543" stAng="5400000" swAng="-5400000"/>
                <a:lnTo>
                  <a:pt x="21600" y="543"/>
                </a:lnTo>
                <a:arcTo wR="543" hR="543" stAng="0" swAng="-5400000"/>
                <a:close/>
              </a:path>
            </a:pathLst>
          </a:cu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553600" y="836640"/>
            <a:ext cx="1079280" cy="1079640"/>
          </a:xfrm>
          <a:prstGeom prst="ellipse">
            <a:avLst/>
          </a:prstGeom>
          <a:solidFill>
            <a:srgbClr val="ff99cc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857240" y="909720"/>
            <a:ext cx="194472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3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メイリオ"/>
              </a:rPr>
              <a:t>メリット</a:t>
            </a:r>
            <a:endParaRPr b="1" lang="en-US" sz="1800" spc="1" strike="noStrike">
              <a:ln w="63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メイリオ"/>
              <a:ea typeface="メイリオ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61240" y="836640"/>
            <a:ext cx="194436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3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メイリオ"/>
              </a:rPr>
              <a:t>デメリット</a:t>
            </a:r>
            <a:endParaRPr b="1" lang="en-US" sz="1800" spc="1" strike="noStrike">
              <a:ln w="63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メイリオ"/>
              <a:ea typeface="メイリオ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2880" y="836640"/>
            <a:ext cx="1079640" cy="1079640"/>
            <a:chOff x="272880" y="836640"/>
            <a:chExt cx="1079640" cy="1079640"/>
          </a:xfrm>
        </p:grpSpPr>
        <p:sp>
          <p:nvSpPr>
            <p:cNvPr id="182" name=""/>
            <p:cNvSpPr/>
            <p:nvPr/>
          </p:nvSpPr>
          <p:spPr>
            <a:xfrm>
              <a:off x="272880" y="836640"/>
              <a:ext cx="1079640" cy="107964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0520" y="1125360"/>
              <a:ext cx="144360" cy="287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20880" y="1125360"/>
              <a:ext cx="144360" cy="287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560520" y="1197000"/>
              <a:ext cx="504720" cy="504720"/>
            </a:xfrm>
            <a:prstGeom prst="blockArc">
              <a:avLst>
                <a:gd name="adj1" fmla="val 11884476"/>
                <a:gd name="adj2" fmla="val 20515524"/>
                <a:gd name="adj3" fmla="val 1857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697960" y="1197000"/>
            <a:ext cx="792000" cy="216000"/>
            <a:chOff x="8697960" y="1197000"/>
            <a:chExt cx="792000" cy="216000"/>
          </a:xfrm>
        </p:grpSpPr>
        <p:sp>
          <p:nvSpPr>
            <p:cNvPr id="187" name=""/>
            <p:cNvSpPr/>
            <p:nvPr/>
          </p:nvSpPr>
          <p:spPr>
            <a:xfrm>
              <a:off x="8697960" y="1197000"/>
              <a:ext cx="330480" cy="21600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0" y="0"/>
                  </a:moveTo>
                  <a:lnTo>
                    <a:pt x="227" y="45"/>
                  </a:lnTo>
                  <a:lnTo>
                    <a:pt x="45" y="136"/>
                  </a:lnTo>
                </a:path>
              </a:pathLst>
            </a:custGeom>
            <a:noFill/>
            <a:ln w="63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9159480" y="1197000"/>
              <a:ext cx="330480" cy="21600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0" y="0"/>
                  </a:moveTo>
                  <a:lnTo>
                    <a:pt x="227" y="45"/>
                  </a:lnTo>
                  <a:lnTo>
                    <a:pt x="45" y="136"/>
                  </a:lnTo>
                </a:path>
              </a:pathLst>
            </a:custGeom>
            <a:noFill/>
            <a:ln w="63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1800" y="2060280"/>
            <a:ext cx="4105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メリット１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271440" indent="-27144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メリット２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271440" indent="-27144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メリット３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0" name=""/>
          <p:cNvSpPr/>
          <p:nvPr/>
        </p:nvSpPr>
        <p:spPr>
          <a:xfrm>
            <a:off x="5240160" y="2060640"/>
            <a:ext cx="410544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デメリット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デメリット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デメリット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57240" y="909720"/>
            <a:ext cx="194472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ff"/>
                </a:solidFill>
                <a:latin typeface="メイリオ"/>
              </a:rPr>
              <a:t>メリット</a:t>
            </a:r>
            <a:endParaRPr b="1" lang="en-US" sz="1800" spc="1" strike="noStrike">
              <a:ln w="0">
                <a:noFill/>
              </a:ln>
              <a:solidFill>
                <a:srgbClr val="3366ff"/>
              </a:solidFill>
              <a:latin typeface="メイリオ"/>
              <a:ea typeface="メイリオ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961240" y="836640"/>
            <a:ext cx="194436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00"/>
                </a:solidFill>
                <a:latin typeface="メイリオ"/>
              </a:rPr>
              <a:t>デメリット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latin typeface="メイリオ"/>
              <a:ea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95C2-5D0A-4648-87EE-FAA004A586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4:25Z</dcterms:created>
  <dc:creator>http://www.digipot.net</dc:creator>
  <dc:description/>
  <cp:keywords>提案書 企画書</cp:keywords>
  <dc:language>en-US</dc:language>
  <cp:lastModifiedBy>http://www.digipot.net</cp:lastModifiedBy>
  <dcterms:modified xsi:type="dcterms:W3CDTF">2011-10-24T07:15:35Z</dcterms:modified>
  <cp:revision>1</cp:revision>
  <dc:subject>PPT090_提案書テンプレート</dc:subject>
  <dc:title>PPT090_提案書テンプレート</dc:title>
</cp:coreProperties>
</file>